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3.gif" ContentType="image/gif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765-FAE5-4A9F-943D-2223F248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DD2-287D-4BE7-B9FA-EBB1D626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ECD-893A-438A-B47C-86BA11D0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504-20AF-41DA-B2DA-8F8CC3B9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D8F5-CD48-4E9E-84B9-DEE24A75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E498-C0F5-43B7-81B1-0CF5D372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0AF9-2B01-4166-A9D0-049D912D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5138-FA60-4034-AB2E-3BC21E49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AA4F-35A3-4B7C-8491-07D2703E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E7E1-5367-47F8-9384-5B2E2471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D6B7-3022-407E-9604-6B08D6A9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FA3-018B-4E89-8ECE-2B2CF335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4457-D370-46A7-8B1B-D0C06C62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F5A4-D37D-446C-AFAF-1F08F3B9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0E30-B964-4693-8455-B15BA866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7758-852A-47F6-9FE1-828A51E4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7D5C-1E65-4D85-8ED0-48C1CE84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F48-C8B3-4D4B-AF00-DD0F5D4E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E8A-76DF-4B3A-B88C-2C51C0C8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12D-DF2F-4F34-B7DE-9E715E6F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489-A747-4DDA-BB39-4C2FCC83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DB9-0AFD-423A-93CA-5D1FCAF1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5A9-AD61-4B0D-9331-E95BDA31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64A-97A8-4F82-ACD3-92E24CC9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13FC-0577-4DEB-A815-8004DE2AD4CA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BA06-1BE2-4A37-83C5-C89B7756729D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soblast.com/images/images-mesoblast_cell_division_still.jpg&amp;imgrefurl=http://www.mesoblast.com/news_imagedownloads.php&amp;h=576&amp;w=768&amp;sz=227&amp;hl=en&amp;start=4&amp;usg=__zN2OOAtbDpbBXwGFFTQsfnrPqno=&amp;tbnid=nuP0R2KC3SDUBM:&amp;tbnh=107&amp;tbnw=142&amp;prev=/images%3Fq%3Dcell%2Bdivision%26hl%3Den%26rls%3DGGLG,GGLG:2006-47,GGLG: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5.jpeg"/><Relationship Id="rId3" Type="http://schemas.openxmlformats.org/officeDocument/2006/relationships/image" Target="../media/image21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8960" y="1294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ell Structure and Func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4379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Everything You Ever Wanted to Know…..Or Maybe Not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8.  Response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respond to stimuli in their environment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9.  Reproduc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reproduce in order to make new cell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Most cells reproduce by fission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Fission is done when one cell divides to form, new identical cell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0"/>
            <a:ext cx="4038480" cy="30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ell Structure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4379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What is in a cell?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What do all the parts do?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p:transition spd="med"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ytoplasm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All of the materials inside of a cell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ot one thing, but many thing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Organelle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All of the tiny structures inside the cell that carry out  life function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Little” Organ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ell Wall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Nonliving, outside of most plant cell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Not a part of animal cell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Provides protection and support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Made of cellulose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Many substances can pass through it. (oxygen, water, carbon dioxide, dissolved materials)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ell Membrane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Outside of an animal cell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굴림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lants also have one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It is living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ontrols what goes into and out of the cell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Permeable to small molecule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Impermeable to larger molecule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Selectively Permeable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34340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The Nucleu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ontrol Center of the Cell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Large oval structure made of proteins, enzymes, and hereditary material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Has a nuclear membrane that allows materials to pass into and out of the nucleu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5244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The Nucleus (continued)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May contain one or mo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Narrow"/>
              </a:rPr>
              <a:t>nucleolus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. (These contain RNA and protein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They help to make proteins.)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The Nucleus (the conclusion)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ont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chromatin material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– large masses of irregular thin threads of DNA, RNA, and protein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hese become chromosomes during reproduction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Chromosomes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hold the genetic information which directs cell activities and passes on traits to new cell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ell Function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Even though cells are specialized, each cell must be able to do nine thing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ytoplasm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The thick, clear liquid that fills the cell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It is always moving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All of the other organelles are suspended in the cytoplasm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Ribosome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Small organelles chiefly responsible for making protein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protein factories”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Often found on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Narrow"/>
              </a:rPr>
              <a:t>Endoplasmic Reticulum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(RER)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72428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Endoplasmic Reticulum (ER)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A canal-like membrane system attached to the cell membrane and the nuclear membrane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Assist in making proteins and moving them around the cell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ontains enzymes needed for breaking down food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an be Smooth =&gt; no ribosomes on it or Rough =&gt; lots of ribosomes on it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4197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Mitochondria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Largest of the organelle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omplex and Rod shaped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Has an inner and outer membrane. (endosymbiosis)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he inner membrane has many folds calle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cristea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Filled with a liquid matrix of its own DNA and ribosome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he Power House of the cell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Break down sugars to produce energy for the cell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Vacuole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Organelles for storing food, enzymes, or other material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Plants hav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one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central vacuole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emporary Waste Dumping Site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Contractile Vacuoles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pump excess water out of the cell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Lysosome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Small, round, enzyme containing organelle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They digest food, destroy bacteria, and digest the cell when it die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Suicide sacs”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Golgi Apparatu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Made up of a series of closely stacked, flattened sac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They package (wrap) substances to be secreted (transported out of) the cell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UPS/FedEx of cell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Plastid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Leucoplasts (White) store oil, starch, or proteins in plant seed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hloroplasts are tiny, green organelles found only in plant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hloroplasts contain chlorophyll, a green pigment responsible for helping plants to produce their own food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entriole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Found in most plant and animal cell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here are usually two per cell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Move to opposite ends of the cell during reproduction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Seem to help the cell to divide up its genetic material during cell division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56" name="" descr="Centriole Structure"/>
          <p:cNvPicPr/>
          <p:nvPr/>
        </p:nvPicPr>
        <p:blipFill>
          <a:blip r:embed="rId1"/>
          <a:stretch/>
        </p:blipFill>
        <p:spPr>
          <a:xfrm>
            <a:off x="228600" y="2354400"/>
            <a:ext cx="441972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572"/>
                </a:solidFill>
                <a:latin typeface="Blue Highway"/>
              </a:rPr>
              <a:t>Who is most important?</a:t>
            </a:r>
            <a:br>
              <a:rPr sz="4800"/>
            </a:br>
            <a:r>
              <a:rPr b="1" lang="en-US" sz="2800" spc="-1" strike="noStrike">
                <a:solidFill>
                  <a:srgbClr val="007572"/>
                </a:solidFill>
                <a:latin typeface="Blue Highway"/>
              </a:rPr>
              <a:t>Decide with your partner (2 min)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Lysosomes…digest waste 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ucleus….the brain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Mitochondria…cell energy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 MEMBRANE… dictates 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everything that the cell brings in 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and out.  How it behaves in the 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whole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7010280" y="1295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790640" cy="24386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1440000" cy="16002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5257800" y="4572000"/>
            <a:ext cx="32004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4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4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1.  Diges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85840" y="837720"/>
            <a:ext cx="4800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take food molecules into smaller, simpler molecules it can use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320" y="2666880"/>
            <a:ext cx="89154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2.  Absorp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take in food, oxygen, and other substances from their environment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9625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3.  Transport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move absorbed materials around inside the cell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64832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4.  Biosynthesi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grow and repair themselves by building larger molecules from smaller one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7242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5.  Secre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deliver vitamins and hormones used in other parts of the organism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94" name="" descr="ergolgi.jpg"/>
          <p:cNvPicPr/>
          <p:nvPr/>
        </p:nvPicPr>
        <p:blipFill>
          <a:blip r:embed="rId1"/>
          <a:stretch/>
        </p:blipFill>
        <p:spPr>
          <a:xfrm>
            <a:off x="228600" y="1752480"/>
            <a:ext cx="47624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6.  Respira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break down organic molecules to get the energy needed for life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97" name="" descr="Research Image"/>
          <p:cNvPicPr/>
          <p:nvPr/>
        </p:nvPicPr>
        <p:blipFill>
          <a:blip r:embed="rId1"/>
          <a:stretch/>
        </p:blipFill>
        <p:spPr>
          <a:xfrm>
            <a:off x="907920" y="1981080"/>
            <a:ext cx="3364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7.  Excre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get rid of waste products that build up from life processe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2195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16:00:00Z</dcterms:created>
  <dc:creator>Bryon David Stump</dc:creator>
  <dc:description/>
  <dc:language>en-US</dc:language>
  <cp:lastModifiedBy>joconnor</cp:lastModifiedBy>
  <dcterms:modified xsi:type="dcterms:W3CDTF">2009-10-27T15:50:22Z</dcterms:modified>
  <cp:revision>19</cp:revision>
  <dc:subject/>
  <dc:title>Cell Structure and Function</dc:title>
</cp:coreProperties>
</file>